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63806"/>
        <c:axId val="68688334"/>
      </c:barChart>
      <c:catAx>
        <c:axId val="89663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88334"/>
        <c:crosses val="autoZero"/>
        <c:auto val="1"/>
        <c:lblAlgn val="ctr"/>
        <c:lblOffset val="100"/>
        <c:noMultiLvlLbl val="0"/>
      </c:catAx>
      <c:valAx>
        <c:axId val="68688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63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A59-AA77-4ACD-A3C3-BB434F3B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C31-F07E-4054-A976-3247E0DE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996-D4D7-48F5-897B-C4A41BAE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0C1-632A-4875-A470-EB1CFB80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B2A-FFF6-4EFB-8669-02A4C58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4B2-1CED-4099-8CEA-A795BFFC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C30-C0F5-4B6A-9239-095BD214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202-5529-4ADA-840E-3BF19841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D4B-84B6-4470-B8B1-752152A5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5DC-034C-4A89-AFC4-E3D9394C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D2C-9B07-4B6F-81C6-94ACDC27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AF6-4887-4693-86CD-02B7C970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F9CE9-9403-4FE2-A3FB-8BA8675F75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