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30174"/>
        <c:axId val="21942416"/>
      </c:barChart>
      <c:catAx>
        <c:axId val="11730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2416"/>
        <c:crosses val="autoZero"/>
        <c:auto val="1"/>
        <c:lblAlgn val="ctr"/>
        <c:lblOffset val="100"/>
        <c:noMultiLvlLbl val="0"/>
      </c:catAx>
      <c:valAx>
        <c:axId val="21942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0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93-BA4F-401F-B4ED-9EF80037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04D-CE79-491D-AC76-34B00E2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2CA-F8FD-4533-9DEB-16E86762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1CD-C31F-4C38-9D21-DFEB5821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596-0E85-4FE8-89A6-5105889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B6D-9586-455D-AE41-7572C78C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7E4-2070-409D-B87A-1635632F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C45-B51C-4EB7-B786-C7C52DE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A06-0484-45EE-B029-3B5DC256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872-E7A9-47E3-BDF5-5EA5896A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181-C41E-4767-B850-DE1AC6E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88D-82F7-4220-9727-8709336B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E42F-7E2C-4CE1-808B-58BA6416A3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