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61071"/>
        <c:axId val="32864264"/>
      </c:barChart>
      <c:catAx>
        <c:axId val="20561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64264"/>
        <c:crosses val="autoZero"/>
        <c:auto val="1"/>
        <c:lblAlgn val="ctr"/>
        <c:lblOffset val="100"/>
        <c:noMultiLvlLbl val="0"/>
      </c:catAx>
      <c:valAx>
        <c:axId val="32864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61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A96-E2ED-4F8B-8B85-D48C0DFF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FD6-6F50-4FD6-92A7-8A92340C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6B4-ABFE-4773-B867-F51EE27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89C-D30B-41C4-B285-EDF1FC42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C69-5E7A-428B-A8CB-A761E024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D73-DBC2-4C3A-BA0C-F39BB109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A78-BA76-445A-833F-7CB607B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6B7-F166-4C47-9A36-D75374F0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CCB-CAE1-4F8B-981F-CFA931E4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58A-7F0D-4C0B-94D4-D75162E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B4C-7AAA-4B84-8301-C69126AC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757-91B6-4E7E-8F61-75C5F17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3F1FE-5B86-4249-87E8-979ADCC753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