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96522"/>
        <c:axId val="12350957"/>
      </c:barChart>
      <c:catAx>
        <c:axId val="70296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50957"/>
        <c:crosses val="autoZero"/>
        <c:auto val="1"/>
        <c:lblAlgn val="ctr"/>
        <c:lblOffset val="100"/>
        <c:noMultiLvlLbl val="0"/>
      </c:catAx>
      <c:valAx>
        <c:axId val="12350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96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912-83C3-4486-865E-6E9BB6D5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A4E-EBD7-4E22-95DE-D6AEF26F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80D-00CC-4995-9EAC-F4CDAC79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FD7-452C-44ED-BA9D-8EA15547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B6D-1E37-4C46-9B9C-8FFDC6DC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CB2-6DE3-49C2-857F-184D0F6B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364-BB38-447F-A691-AF90BA42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869-C615-45EF-86BD-F07E34B9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8DF-C217-4F62-90C4-F589E794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B6A-3784-4663-A2BA-413E2E15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CF3-BB82-4AF7-86E4-EC1BA651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4AA4-63FF-469D-B380-51722C17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BE5F4-9217-46A0-9D3D-BB422BC708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