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83369"/>
        <c:axId val="12686317"/>
      </c:barChart>
      <c:catAx>
        <c:axId val="64483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6317"/>
        <c:crosses val="autoZero"/>
        <c:auto val="1"/>
        <c:lblAlgn val="ctr"/>
        <c:lblOffset val="100"/>
        <c:noMultiLvlLbl val="0"/>
      </c:catAx>
      <c:valAx>
        <c:axId val="12686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83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75C-10B7-485F-A34E-12CE369C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06E-C897-497A-8E1D-2F46790F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AE4-045E-4066-B1D6-BEAE670D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0D0-DC67-4803-8EE8-33C944B7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291-7239-4C1F-AC73-3A751616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EC0-F443-4CD0-9493-EC0552BF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783-3889-480F-BEE4-23BC3C2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723-409A-4CB5-AC77-39C363AC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857-C30B-487F-AE83-84207FBD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77B-B937-4FA6-B4D1-6EC895D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9E8-655B-4D21-9606-9E6D33B2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29A-5B2B-4E1B-944F-17CBD139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6E7F6-B296-4827-BB7A-B65F67B735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