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28192"/>
        <c:axId val="54454776"/>
      </c:barChart>
      <c:catAx>
        <c:axId val="21228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54776"/>
        <c:crosses val="autoZero"/>
        <c:auto val="1"/>
        <c:lblAlgn val="ctr"/>
        <c:lblOffset val="100"/>
        <c:noMultiLvlLbl val="0"/>
      </c:catAx>
      <c:valAx>
        <c:axId val="54454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28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EF5-5FCD-4AD6-A971-8C30D4B4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FBB-796E-476C-B4C0-0CD49095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59B-C5B6-42F7-85E1-5D2ED1F1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BFD-1300-442D-9B4F-E46B6874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17F-1B9C-4D64-8394-8EFE7C6D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A6E-0C3F-484D-AAB6-887F56B9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620-A911-40FF-ABBF-5A26BE32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4BF-74B2-4326-9469-E353B1CB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F93-7E8C-42DA-B6DB-28B6A314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D76-9C79-4037-B951-7868DE72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C20-0949-444C-A387-72788F41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F1D-E51A-4A44-86C5-F3FFBD3F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F8EB8-BD6A-44C3-85BB-27504DF6A5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