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014604"/>
        <c:axId val="36456908"/>
      </c:barChart>
      <c:catAx>
        <c:axId val="760146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56908"/>
        <c:crosses val="autoZero"/>
        <c:auto val="1"/>
        <c:lblAlgn val="ctr"/>
        <c:lblOffset val="100"/>
        <c:noMultiLvlLbl val="0"/>
      </c:catAx>
      <c:valAx>
        <c:axId val="36456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146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09C-2B72-4F3E-9635-7B0DE9D4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816C-40C2-4FB2-A9E8-E54B252D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9902-9058-4B31-854C-EA6ABC3F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3B94-2070-4784-ADAA-30D84E0A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BFFD-8279-40F3-90E7-7B5DC68A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E75-5BDB-4D27-97D9-9B988C0F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2428-DB89-411C-B44E-A81A6047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CBDE-8C9E-468E-8A67-1E70FC05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4B2-BFA8-4279-8943-79F11B08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10E-344A-4265-9357-F8159431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BB4-E783-471E-9FFA-2FED1AA3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911-F96B-4EC8-800A-B22802F3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1022B-4DD2-4F44-A873-274B832775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