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68772"/>
        <c:axId val="88340113"/>
      </c:barChart>
      <c:catAx>
        <c:axId val="50068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40113"/>
        <c:crosses val="autoZero"/>
        <c:auto val="1"/>
        <c:lblAlgn val="ctr"/>
        <c:lblOffset val="100"/>
        <c:noMultiLvlLbl val="0"/>
      </c:catAx>
      <c:valAx>
        <c:axId val="88340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68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2C9-6D94-4AE8-8799-C1C924EF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149-AC8A-4E83-BCDA-EA332AAD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B6A-558F-4026-BABB-C7A425D3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624-FF6C-4D01-B43D-F5901AF4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91A-0742-4A9A-B122-963026E1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3AC-8719-40D3-A36E-0DBD936B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7FB-EFCA-4096-A62E-F6FE6B00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C5B-4C9B-406A-B87D-48503A45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2DA-DF06-4FBB-AFA5-C8C01C89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C35-D81E-438E-9287-A76729B2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C47-3EF5-4165-A007-CC93761F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C6D-209D-43A9-90BA-6DF25EB7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15405-A3C1-4EE1-8E7A-5623E8E4D9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