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31499"/>
        <c:axId val="20572896"/>
      </c:barChart>
      <c:catAx>
        <c:axId val="81531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2896"/>
        <c:crosses val="autoZero"/>
        <c:auto val="1"/>
        <c:lblAlgn val="ctr"/>
        <c:lblOffset val="100"/>
        <c:noMultiLvlLbl val="0"/>
      </c:catAx>
      <c:valAx>
        <c:axId val="20572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31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9C0-D9AB-424E-BDBE-DB428687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4FA-C4CE-4D38-884F-A56AC72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D6E-AAA3-4122-9629-6A261A7B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A99-66D9-42FF-8EB3-E409E1E4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937-B38E-42E5-891E-30EAADAC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71F-2437-423C-8EF7-998F2571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661-3D6E-49D0-954E-210AF94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0F8-83B4-44EB-A6EB-D9486287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B39-070B-4332-9E77-40C5528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AFA-7EA3-4A23-A534-480948C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245-AF40-40DA-9728-41F984E4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D9D-EE1F-46CC-9FAE-6B37B9B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28702-2759-4192-8849-F6BDFB6D7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