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29320"/>
        <c:axId val="30496284"/>
      </c:barChart>
      <c:catAx>
        <c:axId val="4729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96284"/>
        <c:crosses val="autoZero"/>
        <c:auto val="1"/>
        <c:lblAlgn val="ctr"/>
        <c:lblOffset val="100"/>
        <c:noMultiLvlLbl val="0"/>
      </c:catAx>
      <c:valAx>
        <c:axId val="30496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9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407-119D-4EC9-B0C9-D1EB2667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B49-EDCF-4930-89E9-AF21EA36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B67B-0FE4-49C1-8B91-6ABE64DF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86D-5046-4C7C-ABA1-A5EC2111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6D3-7CB9-4470-9451-5D176911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ED2-8286-4FBF-948F-95D48A3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B87-94B7-4E85-AB64-AF5EC3A0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200-7F69-4AC6-B899-8FC87852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556-E722-4FF5-8983-07669721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06D-ACC7-4D88-9825-7C4CECAE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4B7-7A12-4730-86D6-E0C16A4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FB5-5AEB-486C-BF49-0602F0C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CBEF6-EA9E-4771-A657-2A6024ECE7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