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92506"/>
        <c:axId val="65244434"/>
      </c:barChart>
      <c:catAx>
        <c:axId val="71792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44434"/>
        <c:crosses val="autoZero"/>
        <c:auto val="1"/>
        <c:lblAlgn val="ctr"/>
        <c:lblOffset val="100"/>
        <c:noMultiLvlLbl val="0"/>
      </c:catAx>
      <c:valAx>
        <c:axId val="652444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92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2CA-325C-4DB4-9DE2-0A1A904C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930-4CF9-4CBA-B19B-02D75C4D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C6C-069D-44B4-800F-294D3A94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722-E0B5-4264-BAB7-448451E1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927-905E-4BF2-8A70-EBBF057A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924-E38F-4EBE-BE7F-CEBB3928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DF0-4407-46C0-B9DA-D94255B5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81E-0154-4A03-8C1D-73F13856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708-CCC7-44CC-AC46-ACC8A0EE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AD5-7054-4238-B32F-9A66C5DC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BF0-034A-41E3-9E88-602AF83B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5C1-925C-4E42-8EF0-61F58384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629AA-6B79-4EC4-87B4-21FF8625BA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