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30291"/>
        <c:axId val="90579598"/>
      </c:barChart>
      <c:catAx>
        <c:axId val="43630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79598"/>
        <c:crosses val="autoZero"/>
        <c:auto val="1"/>
        <c:lblAlgn val="ctr"/>
        <c:lblOffset val="100"/>
        <c:noMultiLvlLbl val="0"/>
      </c:catAx>
      <c:valAx>
        <c:axId val="90579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30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91E-66F5-4344-A712-FB7C5A9C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6AA-3087-4190-AE79-53F06857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B7B7-4E93-4F1D-B362-F29B3297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59D-46AA-4EFC-B707-D9313B6A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52E-DEE5-4428-B5F4-E543C8B3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92C-1A99-4AF2-83A3-542D298E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30DA-AFB8-4C6E-A984-1F4D3F68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A22-F3F0-4F57-BDF6-96B512B1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989F-62B8-4A3D-A32A-0A9D960F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8FF9-65E6-42C2-889F-487B610F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216-A537-4594-930B-28147189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EAE-FB7A-482C-9863-49BEC710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E7B67-9457-4DD0-89E3-07FAC8EAE5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