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72710"/>
        <c:axId val="40600318"/>
      </c:barChart>
      <c:catAx>
        <c:axId val="80672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00318"/>
        <c:crosses val="autoZero"/>
        <c:auto val="1"/>
        <c:lblAlgn val="ctr"/>
        <c:lblOffset val="100"/>
        <c:noMultiLvlLbl val="0"/>
      </c:catAx>
      <c:valAx>
        <c:axId val="40600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2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EA5-7202-4D8F-A0B9-AC804D2E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FFC-DB49-495B-A900-49FD8E7C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89B-61DF-4B1D-8D1F-0DA12E1E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5DB-4044-4CB3-AC76-AD907B2A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CDF-366F-4A78-A66B-8C24520E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B47-655A-49EB-B8A1-D491764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203-0C73-470A-B26A-707F7B6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4A9-E12C-42C9-8661-9605C0E9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AF9-AE14-440F-8A1F-374335C7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014-7CB8-4E3B-A941-B6B3610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7E4-358C-4C88-A62B-E81C07C1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1A8-9196-4F05-9115-92DB0AD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9D344-EC10-4CDD-8BE7-B9A25D29D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