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977968"/>
        <c:axId val="24359363"/>
      </c:barChart>
      <c:catAx>
        <c:axId val="919779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59363"/>
        <c:crosses val="autoZero"/>
        <c:auto val="1"/>
        <c:lblAlgn val="ctr"/>
        <c:lblOffset val="100"/>
        <c:noMultiLvlLbl val="0"/>
      </c:catAx>
      <c:valAx>
        <c:axId val="243593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779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D560-94F2-4F2C-B8AB-46123AD4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4EE-89D0-4BBD-9CA2-BD3480C4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0D9-CB71-4B01-9333-0267FA67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40B0-DC86-411C-8ABC-4F917AE9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A16-4BB4-47F2-BD59-F9CF753D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46C-D3B4-4BF5-B59D-674BF574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5071-77DB-4A14-A687-E612585E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B93-0FB9-447A-9398-724A96AA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729B-E557-4861-86D0-F489E2FD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272A-A379-4685-B288-84B4B6FD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EA1-883E-48F7-90A1-9060B509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5414-1FA2-45BC-AA0D-556DC552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BF74F-7441-4630-8EC9-B538F4805C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