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44715"/>
        <c:axId val="65827926"/>
      </c:barChart>
      <c:catAx>
        <c:axId val="2064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7926"/>
        <c:crosses val="autoZero"/>
        <c:auto val="1"/>
        <c:lblAlgn val="ctr"/>
        <c:lblOffset val="100"/>
        <c:noMultiLvlLbl val="0"/>
      </c:catAx>
      <c:valAx>
        <c:axId val="65827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4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00B-66B3-490C-B6AB-C3B93A64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018-4E4C-4303-9AB4-22CC38A1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2C7-D1E6-44AE-9A68-69E1241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D39-CB67-4ED0-9ADB-706AA88E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AA1-7DCE-423D-83A3-C07F9533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77D-149E-4DD8-84FB-B6988798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C4D-3E26-4CF9-8754-8F87A09B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0D8-90BA-468D-A97A-738109B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443-7A75-4B97-A1EE-06726005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8CC-BA47-4B1E-B6F6-B6071F3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342-0BD4-450F-8FA8-6CCC0BE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CD7-42E7-4D07-9138-A95F91F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4A5ED-E86A-489F-81CA-34013D29C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